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wmf" ContentType="image/x-wmf"/>
  <Override PartName="/ppt/media/image18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4.wmf" ContentType="image/x-wmf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27B8-C1F8-4BF1-B1C6-62EF1F5C9BEB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69E7-3934-4CDD-80C6-A36CA349F26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338B-7F89-49F8-979F-8D460B3E21B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0DCE-DD3D-4502-BBEE-5ACBBFAF2C1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9466-CF4A-44FF-B810-3270D751F8C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6488-108E-43B2-B89F-32EC73C75D4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FC04-E888-43C2-8CB7-4881893BC71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32C6-50C9-43B6-9CEE-30E65DAA00A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7B51-BAF9-4017-B8AD-903F428F93C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A85F-FE6F-4079-A4BF-88DF636F043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78BA-7C30-4497-B8DF-E9478794B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4F32-CCB7-4ACA-A911-F0A363D43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02D7-04C4-4EBA-8E9A-BD705B79A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7EE9-0725-436F-BFEB-A9853C46790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16AC-196C-4AEC-B4AA-C49D2649E53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40D6-3C64-4F0E-8FAB-BD3AA4F571A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550B-43FB-41AD-B6D0-249BBC32820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F57B-94DA-4FCF-8B3E-99260CD1B04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85AE-2480-482D-8297-3535C2A4F3C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3D44-E0F5-4066-BD74-0D9B36E9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2C43-4E0F-4425-AA72-EE03152D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DE76-6AE5-4D8A-81D4-9422A83DC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CD4F-DE15-410F-8292-DF975312D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270B-E376-4A1B-B7C8-72C60D691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69AC-E113-42DE-A0F0-1C571EA1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24B0-7601-4586-9B8D-42626B0D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AD12-CD68-4B3B-BF76-CC21C44B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8190-4016-4986-80FC-ABB56624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100B-9834-4D9A-BDB7-5D0898D4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3EE3-0546-4669-A21D-3B6A9B4D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3695-162D-41BF-86BC-C9E762FD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CC26-D788-4F05-ACF4-B01D3532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A0B9-298F-4B79-98F1-8F69615C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CB83-CFD2-4426-89BD-D5B51D10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75BF-FA86-43C4-85C7-3BE14FE91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55D3-99EA-42BA-A536-E72AF424B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8CB4-C972-44EA-BCF9-DAFF6CCD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9982-93AE-4B39-8199-E60FA9C4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6296-94F1-4E9C-8935-03950B2E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05EF-AF31-42FA-B5BD-17EEBC6F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B85A-BB59-41FA-B2AD-BB735064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FA70-7749-4C07-9911-3C7C7458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B78E-FE2D-4FED-910A-79BFDCD1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5935-FD4E-41CB-A050-53A130184E73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D89C-93FD-4503-9A34-A9B59C624FA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nva.gov.lv/karjera/testi/lv/selfcheck_b/test/new_test/" TargetMode="External"/><Relationship Id="rId2" Type="http://schemas.openxmlformats.org/officeDocument/2006/relationships/hyperlink" Target="http://www.niid.lv/tests/testi/tests4_1.php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vidus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Ž. HOLLANDA TIPOLOĢIJ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468360" y="134136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250920" y="1413000"/>
            <a:ext cx="87487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ar izdalīt sešus personību tipus un sešus darba vides/profesiju pamattipus, kas atbilst katram no iepriekš minētajiem personību tip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Prakt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Izzinoš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Māksliniec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Sociāl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Uzņēmīg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Konvencionālo tip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Cilvēks savai profesionālai darbībai meklē tādu vidi, kurā viņš spētu atklāt savu personību, parādīt un attīstīt savas prasmes un spējas, paust savu attieksmi un vērtējumu, kā arī – pieņemt noteikumus, kurus izvirza konkrētais profesionālās darbības veid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KT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68360" y="119700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468360" y="177336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ais personības tips ir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reāli domājoši; labprāt strādā roku darbu vai lieto instrumentus un ierīces, risina tehniskas dabas problēmas; rūpējas par augiem un dzīvniekiem, strādā ārā; labprātāk veic praktisku darbu nekā teorētisku, intelektuālu dar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ā vide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fiziskas darbības, darbs ar instrumentiem aparātiem, mašīnām; praktisku uzdevumu risināšana; nepieciešama roku veiklība un tehniskās zināša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MC900186084"/>
          <p:cNvPicPr/>
          <p:nvPr/>
        </p:nvPicPr>
        <p:blipFill>
          <a:blip r:embed="rId1"/>
          <a:stretch/>
        </p:blipFill>
        <p:spPr>
          <a:xfrm>
            <a:off x="7308720" y="4581360"/>
            <a:ext cx="1419480" cy="14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ZZINOŠ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468360" y="162864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od priekšroku pētnieciskai darbībai, lai novērotu, mācītos, analizētu un rastu problēmu risinājumus; raksturīga oriģinalitāte, zinātkāre, analītiskā domāšana; labāk patīk strādāt vienatnē vai vidē, kur nav jākontaktējas un jāsadarbojas ar daudz un dažādiem cilvēkiem, bieži trūkst organizatora tal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jānoskaidro dažādu parādību pamatā esošie iemesli un jāmeklē problēmu risinājums; darbs saistīts ar abstraktu ideju vai dabas un sociālo parādību izpēti, sakarību meklēšanu, jaunu teorētisko atziņu radīša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advice,answers,asking,cartoons,education,exclamation marks,iStockphoto,learning,librarians,professors,questions,solutions,students,wisdom"/>
          <p:cNvPicPr/>
          <p:nvPr/>
        </p:nvPicPr>
        <p:blipFill>
          <a:blip r:embed="rId1"/>
          <a:stretch/>
        </p:blipFill>
        <p:spPr>
          <a:xfrm>
            <a:off x="7524720" y="2637000"/>
            <a:ext cx="154800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ĀKSLINIEC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468360" y="1557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a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individuālists ar mākslinieciskiem talantiem, radošu domāšanu; labprāt izmanto iztēli un izsaka sevi oriģinālā un nesistemātiskā veidā; nepatīk vienveidība, stingrs darba režīms, darbs ar konkrētiem, precīzi definētiem darba uzdevumiem, instrukci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atklāta, brīva, ar nestrukturētām darba stundām, prasa iniciatīvu un radošu domāšanu; maksimāli novērtē personas mākslinieciskās un emocionālās izpausmes vei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artists,cartoonists,cartoons,entertainment,males,men,persons"/>
          <p:cNvPicPr/>
          <p:nvPr/>
        </p:nvPicPr>
        <p:blipFill>
          <a:blip r:embed="rId1"/>
          <a:srcRect l="0" t="5675" r="0" b="0"/>
          <a:stretch/>
        </p:blipFill>
        <p:spPr>
          <a:xfrm>
            <a:off x="7164360" y="4863960"/>
            <a:ext cx="153036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9528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OCI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468360" y="170028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labprāt strādā ar cilvēkiem, lai informētu, konsultētu, palīdzētu, izglītotu, rūpētos; raksturīgas labas saskarsmes iemaņas, bet nereti trūkt zinātniska un/vai tehniska darba iemaņu, priekšroku dod darbam ar cilvēkiem, nevis ar datiem, lietām vai ide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arbs saistīts ar atbalsta sniegšanu, sociālās labklājības vairošanu, citu cilvēku attīstīšanu un izglītoša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MC900383366"/>
          <p:cNvPicPr/>
          <p:nvPr/>
        </p:nvPicPr>
        <p:blipFill>
          <a:blip r:embed="rId1"/>
          <a:stretch/>
        </p:blipFill>
        <p:spPr>
          <a:xfrm>
            <a:off x="7020000" y="4653000"/>
            <a:ext cx="1890720" cy="159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ŅĒMĪG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53964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g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špaļāvīgi, ekstraverti cilvēki, kuri labprāt uzņemas risku, pārliecina, vada un ietekmē cilvēkus, nodarbojas paši ar savu biznesu, sasniedz ievērojamu sociālo stāvokli; viņi dod priekšroku vadīt citus, nevis būt vadītiem; bieži pietrūkst zinātniskā darba iemaņ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bu rosinoša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orientācija uz sasniegumiem, konkurence; darbā nepieciešams vadīt un pārliecināt cilvēkus rīkoties, lai sasniegtu organizācijas, finanšu vai ekonomiskos mērķ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MC900383266"/>
          <p:cNvPicPr/>
          <p:nvPr/>
        </p:nvPicPr>
        <p:blipFill>
          <a:blip r:embed="rId1"/>
          <a:stretch/>
        </p:blipFill>
        <p:spPr>
          <a:xfrm>
            <a:off x="7524720" y="5013360"/>
            <a:ext cx="126360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NVENCION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95280" y="162864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tīk pedantisks, precīzs, detalizēts un sistemātisks darbs ar skaitļiem, datiem un informāciju nevis ar cilvēkiem, idejām vai lietām; neiebilst pret instrukciju saņemšanu no citiem cilvēkiem; dod priekšroku būt uzraudzītiem, nevis pašiem pieņemt lēmumus; bieži trūkst māksliniecisko spē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raksturīga darba organizācija un plānošana, darbs parasti tiek veikts birojā, ir saistīts ar datiem, pārskatiem, dokumentiem un prasa kārtību; visas darbības ir prognozējamas un atbilst pieņemtajai kārtīb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9" descr="MC900435981"/>
          <p:cNvPicPr/>
          <p:nvPr/>
        </p:nvPicPr>
        <p:blipFill>
          <a:blip r:embed="rId1"/>
          <a:stretch/>
        </p:blipFill>
        <p:spPr>
          <a:xfrm>
            <a:off x="7740720" y="3357720"/>
            <a:ext cx="1192320" cy="9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METODIKAS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ašnoteicējs jauniešiem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(Nodarbinātības valsts aģentūras mājas lapas sadaļā „Karjeras pakalpojumi”)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va.gov.lv/karjera/testi/lv/selfcheck_b/test/new_test/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ersonības tests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(Nacionālās izglītības iespēju datubāzes sadaļā „Karjeras izvēles testi”)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iid.lv/tests/testi/tests4_1.php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9640" y="1628640"/>
          <a:ext cx="8229600" cy="889200"/>
        </p:xfrm>
        <a:graphic>
          <a:graphicData uri="http://schemas.openxmlformats.org/drawingml/2006/table">
            <a:tbl>
              <a:tblPr/>
              <a:tblGrid>
                <a:gridCol w="2743200"/>
                <a:gridCol w="2955960"/>
                <a:gridCol w="253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as man tajā patī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āpē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7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ā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rutīnveida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IEREDZES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600200"/>
          <a:ext cx="8075520" cy="2286000"/>
        </p:xfrm>
        <a:graphic>
          <a:graphicData uri="http://schemas.openxmlformats.org/drawingml/2006/table">
            <a:tbl>
              <a:tblPr/>
              <a:tblGrid>
                <a:gridCol w="2908440"/>
                <a:gridCol w="2719080"/>
                <a:gridCol w="244800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ā man ve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1844640"/>
          <a:ext cx="8640720" cy="2809800"/>
        </p:xfrm>
        <a:graphic>
          <a:graphicData uri="http://schemas.openxmlformats.org/drawingml/2006/table">
            <a:tbl>
              <a:tblPr/>
              <a:tblGrid>
                <a:gridCol w="3095640"/>
                <a:gridCol w="3384360"/>
                <a:gridCol w="2160720"/>
              </a:tblGrid>
              <a:tr h="42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intereses/stiprās p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12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or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68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77920" y="155736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8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Dž. Hollanda karjeras teor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nteresē – un kāpēc t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 padodas/ko es protu/kādas ir manas zināšanas? Vai tas mani interesē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rakstura īpaš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vērt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9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9:21:25Z</dcterms:modified>
  <cp:revision>340</cp:revision>
  <dc:subject/>
  <dc:title>Slide 1</dc:title>
</cp:coreProperties>
</file>